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3D5-4E62-42C8-A507-6F4191D8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774-AB8F-48FC-A29C-E7AA3D4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110-1520-42B0-8222-D86B78EE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199-6203-4DA7-9380-440633B6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F4D-F81C-4784-8C90-FD85D8F3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611-4E22-4680-A74B-298D8A75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5BB-C8D0-4E09-83FB-7DB54D58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202-E454-42AD-A8F8-09E2AAD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855-D51A-477B-81FD-EC685F46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780-742D-4FAE-9508-0FDFE37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B4C-0DAD-4393-BB53-BEA2CBD8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3F7-0279-48D5-A2B8-FE3DF891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1552-6838-43B9-9694-4C5DA95E3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4:46Z</dcterms:created>
  <dc:creator>Anon Anon</dc:creator>
  <dc:description/>
  <dc:language>en-US</dc:language>
  <cp:lastModifiedBy>Anon Anon</cp:lastModifiedBy>
  <dcterms:modified xsi:type="dcterms:W3CDTF">2005-08-16T04:24:18Z</dcterms:modified>
  <cp:revision>14</cp:revision>
  <dc:subject/>
  <dc:title>PowerPoint Presentation</dc:title>
</cp:coreProperties>
</file>